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398E-667F-4F2D-8CB9-610E4A948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D362-7900-4EA7-8234-4167D0CC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0309-9D10-4299-896C-B389761A5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E489-0423-48B1-AC2F-9A4CF00AB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A707-30D1-4495-B966-E39BF421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6EAE-0CF0-41FC-960A-2A02649D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BF11-36F5-45F5-9793-2C8EBD6B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AF04-7FC3-4CF7-A883-99BEB537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9FBA-A180-474C-AB4A-E7460BCA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4D33-484B-4DA3-96FE-CF878066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9B12-176B-41AC-9EC9-E090CAFA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6118-8A57-4888-A96A-A3C562D8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6FEF-9CC6-495D-8778-6403869CF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1403280" y="952560"/>
            <a:ext cx="7344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9999"/>
                </a:solidFill>
                <a:latin typeface="Comic Sans MS"/>
              </a:rPr>
              <a:t>Экология как нау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Копия ecology"/>
          <p:cNvPicPr/>
          <p:nvPr/>
        </p:nvPicPr>
        <p:blipFill>
          <a:blip r:embed="rId1"/>
          <a:stretch/>
        </p:blipFill>
        <p:spPr>
          <a:xfrm>
            <a:off x="6227640" y="3213000"/>
            <a:ext cx="2025720" cy="165276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8"/>
          <p:cNvSpPr/>
          <p:nvPr/>
        </p:nvSpPr>
        <p:spPr>
          <a:xfrm rot="1091400">
            <a:off x="5866920" y="2997360"/>
            <a:ext cx="2643480" cy="19573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Вперёд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028000" y="6194520"/>
            <a:ext cx="942840" cy="355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0"/>
          <p:cNvSpPr/>
          <p:nvPr/>
        </p:nvSpPr>
        <p:spPr>
          <a:xfrm>
            <a:off x="1403280" y="189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1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2" descr="Домой"/>
          <p:cNvPicPr/>
          <p:nvPr/>
        </p:nvPicPr>
        <p:blipFill>
          <a:blip r:embed="rId2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3" descr="Вперёд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403280" y="981000"/>
            <a:ext cx="63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Исчерпывание запасов полезных ископаем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4067280" y="1773360"/>
            <a:ext cx="4363920" cy="32702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0"/>
          <p:cNvSpPr/>
          <p:nvPr/>
        </p:nvSpPr>
        <p:spPr>
          <a:xfrm>
            <a:off x="2484360" y="5661000"/>
            <a:ext cx="51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Да и многие другие проблемы, связанные с халатностью человека по отношению к природным ресурс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10"/>
          <p:cNvSpPr/>
          <p:nvPr/>
        </p:nvSpPr>
        <p:spPr>
          <a:xfrm>
            <a:off x="1692360" y="1341360"/>
            <a:ext cx="691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Comic Sans MS"/>
              </a:rPr>
              <a:t>Эколо́гия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(от греч. οικος — дом, жилище, родина и λόγος — учение, наука) — наука, изучающая взаимоотношения живой и неживой приро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0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2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7"/>
          <p:cNvSpPr/>
          <p:nvPr/>
        </p:nvSpPr>
        <p:spPr>
          <a:xfrm>
            <a:off x="2124000" y="189000"/>
            <a:ext cx="30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Опред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1692360" y="105264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Современное значение слова экология имеет более широкое значение, чем в первые десятилетия развития этой нау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1476360" y="2421000"/>
            <a:ext cx="3745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1, Экология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— познание экономики природы, одновременное исследование всех взаимоотношений живого с органическими и неорганическими компонентами сре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435640" y="2708280"/>
            <a:ext cx="3527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2,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9999"/>
                </a:solidFill>
                <a:latin typeface="Comic Sans MS"/>
              </a:rPr>
              <a:t>Экология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— это наука, изучающая все сложные взаимосвязи в природе, рассматриваемые Дарвином как условия борьбы за существ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771640" y="4581360"/>
            <a:ext cx="3888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99"/>
                </a:solidFill>
                <a:latin typeface="Comic Sans MS"/>
              </a:rPr>
              <a:t>3, Экология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- биологическая наука, которая исследует структуру и функционирование систем надорганизменного уровня в пространстве и времени в естественных и измененных человеком услови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3"/>
          <p:cNvSpPr/>
          <p:nvPr/>
        </p:nvSpPr>
        <p:spPr>
          <a:xfrm>
            <a:off x="5364000" y="2637000"/>
            <a:ext cx="3529080" cy="1728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4"/>
          <p:cNvSpPr/>
          <p:nvPr/>
        </p:nvSpPr>
        <p:spPr>
          <a:xfrm>
            <a:off x="1403280" y="2276640"/>
            <a:ext cx="3816360" cy="20160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5"/>
          <p:cNvSpPr/>
          <p:nvPr/>
        </p:nvSpPr>
        <p:spPr>
          <a:xfrm>
            <a:off x="2700360" y="4508640"/>
            <a:ext cx="3887640" cy="187308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6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1403280" y="333360"/>
            <a:ext cx="77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Связи экологии с другими нау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763640" y="3860640"/>
            <a:ext cx="684072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Экология обычно рассматривается как подотрасль биологии, общей науки о живых организм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о экология также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вязана со многими другими науками именно потому, что она изучает организацию живых организмов на очень высоком уровне, исследует связи между организмами и их средой об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9"/>
          <p:cNvSpPr/>
          <p:nvPr/>
        </p:nvSpPr>
        <p:spPr>
          <a:xfrm>
            <a:off x="2625840" y="2924280"/>
            <a:ext cx="1511280" cy="57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2770200" y="2997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б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5"/>
          <p:cNvSpPr/>
          <p:nvPr/>
        </p:nvSpPr>
        <p:spPr>
          <a:xfrm>
            <a:off x="4786200" y="2925720"/>
            <a:ext cx="12956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6"/>
          <p:cNvSpPr/>
          <p:nvPr/>
        </p:nvSpPr>
        <p:spPr>
          <a:xfrm>
            <a:off x="6657840" y="2925720"/>
            <a:ext cx="12956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4930920" y="2997360"/>
            <a:ext cx="10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хим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6802560" y="299736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ф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3"/>
          <p:cNvSpPr/>
          <p:nvPr/>
        </p:nvSpPr>
        <p:spPr>
          <a:xfrm>
            <a:off x="4788000" y="1341360"/>
            <a:ext cx="143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Эк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4"/>
          <p:cNvSpPr/>
          <p:nvPr/>
        </p:nvSpPr>
        <p:spPr>
          <a:xfrm flipH="1">
            <a:off x="3708360" y="1701720"/>
            <a:ext cx="1224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5"/>
          <p:cNvSpPr/>
          <p:nvPr/>
        </p:nvSpPr>
        <p:spPr>
          <a:xfrm>
            <a:off x="5940360" y="1701720"/>
            <a:ext cx="93672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6"/>
          <p:cNvSpPr/>
          <p:nvPr/>
        </p:nvSpPr>
        <p:spPr>
          <a:xfrm flipH="1">
            <a:off x="3851280" y="1701720"/>
            <a:ext cx="144144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7"/>
          <p:cNvSpPr/>
          <p:nvPr/>
        </p:nvSpPr>
        <p:spPr>
          <a:xfrm>
            <a:off x="5435640" y="170172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8"/>
          <p:cNvSpPr/>
          <p:nvPr/>
        </p:nvSpPr>
        <p:spPr>
          <a:xfrm>
            <a:off x="5580000" y="1701720"/>
            <a:ext cx="144000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9"/>
          <p:cNvSpPr/>
          <p:nvPr/>
        </p:nvSpPr>
        <p:spPr>
          <a:xfrm>
            <a:off x="6946920" y="1846440"/>
            <a:ext cx="1728720" cy="57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0"/>
          <p:cNvSpPr/>
          <p:nvPr/>
        </p:nvSpPr>
        <p:spPr>
          <a:xfrm>
            <a:off x="7020000" y="191772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матема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1"/>
          <p:cNvSpPr/>
          <p:nvPr/>
        </p:nvSpPr>
        <p:spPr>
          <a:xfrm>
            <a:off x="1763640" y="191772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2"/>
          <p:cNvSpPr/>
          <p:nvPr/>
        </p:nvSpPr>
        <p:spPr>
          <a:xfrm>
            <a:off x="1908000" y="198900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географ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3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4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5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5"/>
          <p:cNvSpPr/>
          <p:nvPr/>
        </p:nvSpPr>
        <p:spPr>
          <a:xfrm>
            <a:off x="2124000" y="4762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Главная задача эк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1692360" y="2565360"/>
            <a:ext cx="6840360" cy="28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Главная же теоретическая и практическая задача экологии — 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раскрыть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общие 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закономерности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организации жизни и на этой основе 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разработать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принципы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рационального использования природных ресурсов в условиях все возрастающего влияния человека на биосферу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Копия (2) Экология 1"/>
          <p:cNvPicPr/>
          <p:nvPr/>
        </p:nvPicPr>
        <p:blipFill>
          <a:blip r:embed="rId1"/>
          <a:stretch/>
        </p:blipFill>
        <p:spPr>
          <a:xfrm>
            <a:off x="7596360" y="620640"/>
            <a:ext cx="1238040" cy="1238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Домой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5"/>
          <p:cNvSpPr/>
          <p:nvPr/>
        </p:nvSpPr>
        <p:spPr>
          <a:xfrm>
            <a:off x="1619280" y="189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403280" y="1341360"/>
            <a:ext cx="774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заимодействие человеческого общества и природы стало одной из важнейших проблем современности, поскольку положение, которое складывается в отношениях человека с природой, часто становится критическ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2" descr="carbon01"/>
          <p:cNvPicPr/>
          <p:nvPr/>
        </p:nvPicPr>
        <p:blipFill>
          <a:blip r:embed="rId1"/>
          <a:stretch/>
        </p:blipFill>
        <p:spPr>
          <a:xfrm>
            <a:off x="3924360" y="3213000"/>
            <a:ext cx="2340000" cy="29527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03"/>
          <p:cNvSpPr/>
          <p:nvPr/>
        </p:nvSpPr>
        <p:spPr>
          <a:xfrm>
            <a:off x="3635280" y="5877000"/>
            <a:ext cx="2665440" cy="64764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4" descr="Назад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5" descr="Домой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6" descr="Вперёд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5"/>
          <p:cNvSpPr/>
          <p:nvPr/>
        </p:nvSpPr>
        <p:spPr>
          <a:xfrm>
            <a:off x="1332000" y="836640"/>
            <a:ext cx="73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Ухудшение состояния водного и воздушного бассей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0"/>
          <p:cNvSpPr/>
          <p:nvPr/>
        </p:nvSpPr>
        <p:spPr>
          <a:xfrm>
            <a:off x="1403280" y="189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1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Домой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3" descr="Вперёд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547640" y="1484280"/>
            <a:ext cx="3810240" cy="20955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4500720" y="3645000"/>
            <a:ext cx="3816360" cy="208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0"/>
          <p:cNvSpPr/>
          <p:nvPr/>
        </p:nvSpPr>
        <p:spPr>
          <a:xfrm>
            <a:off x="1403280" y="189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1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2" descr="Домой"/>
          <p:cNvPicPr/>
          <p:nvPr/>
        </p:nvPicPr>
        <p:blipFill>
          <a:blip r:embed="rId2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3" descr="Вперёд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332000" y="90792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Исчерпывание запасов пресной 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2843280" y="2060640"/>
            <a:ext cx="4267080" cy="262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0"/>
          <p:cNvSpPr/>
          <p:nvPr/>
        </p:nvSpPr>
        <p:spPr>
          <a:xfrm>
            <a:off x="1403280" y="189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Главные проблемы челове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1" descr="Назад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236000" y="6381720"/>
            <a:ext cx="957240" cy="362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2" descr="Домой"/>
          <p:cNvPicPr/>
          <p:nvPr/>
        </p:nvPicPr>
        <p:blipFill>
          <a:blip r:embed="rId2"/>
          <a:stretch/>
        </p:blipFill>
        <p:spPr>
          <a:xfrm>
            <a:off x="1835280" y="6173640"/>
            <a:ext cx="684000" cy="684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3" descr="Вперёд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68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1403280" y="105264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Ухудшение состояния поч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508720" y="1413000"/>
            <a:ext cx="2957400" cy="4464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5T20:45:26Z</dcterms:created>
  <dc:creator>CoYoko</dc:creator>
  <dc:description/>
  <dc:language>en-US</dc:language>
  <cp:lastModifiedBy>Admin</cp:lastModifiedBy>
  <dcterms:modified xsi:type="dcterms:W3CDTF">2013-03-04T16:18:06Z</dcterms:modified>
  <cp:revision>18</cp:revision>
  <dc:subject/>
  <dc:title>Экология Рядом!</dc:title>
</cp:coreProperties>
</file>